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69A8C1F-5A70-43CB-A066-CE08CAEA375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AF35F97-83E4-476D-9705-875081B83E3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2F48B71-0CC9-4751-ABD9-93424AF46FA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695160" y="739800"/>
            <a:ext cx="5345280" cy="3701880"/>
          </a:xfrm>
          <a:prstGeom prst="rect">
            <a:avLst/>
          </a:prstGeom>
          <a:ln w="0">
            <a:noFill/>
          </a:ln>
        </p:spPr>
      </p:sp>
      <p:sp>
        <p:nvSpPr>
          <p:cNvPr id="323" name="PlaceHolder 2"/>
          <p:cNvSpPr>
            <a:spLocks noGrp="1"/>
          </p:cNvSpPr>
          <p:nvPr>
            <p:ph type="body"/>
          </p:nvPr>
        </p:nvSpPr>
        <p:spPr>
          <a:xfrm>
            <a:off x="672840" y="4687920"/>
            <a:ext cx="5389560" cy="445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693720" y="739800"/>
            <a:ext cx="5346720" cy="3701880"/>
          </a:xfrm>
          <a:prstGeom prst="rect">
            <a:avLst/>
          </a:prstGeom>
          <a:ln w="0">
            <a:noFill/>
          </a:ln>
        </p:spPr>
      </p:sp>
      <p:sp>
        <p:nvSpPr>
          <p:cNvPr id="32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93720" y="739800"/>
            <a:ext cx="5346720" cy="3701880"/>
          </a:xfrm>
          <a:prstGeom prst="rect">
            <a:avLst/>
          </a:prstGeom>
          <a:ln w="0">
            <a:noFill/>
          </a:ln>
        </p:spPr>
      </p:sp>
      <p:sp>
        <p:nvSpPr>
          <p:cNvPr id="32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3F01F4-6E8E-43E0-B490-25AAD2D704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734DDF-79AE-42AB-89BF-677802831B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48882B-DC2F-44E3-A376-D201600FE8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F3B618-7350-428D-937E-F032D52A3B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96103-3BE2-49B1-9143-A78128BF4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DE333-266B-4A90-86EC-F30DC1D5D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1FA00-CEAE-4458-B4BC-223284DD7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A8FFA-07B1-44F4-813A-D8E7653FB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F1E01-3A31-4FDB-BAF4-A10557BFF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8A65F-6647-4FE5-A884-BB7C3CCA8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A2AD7-0E96-4AAC-87B1-E419F6A91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847C2E-203B-4BB9-8062-F14F1BCD0C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44B1D-F90A-4CB8-9208-B3AD1C9FE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99CD0-6846-4C89-9B48-7F90D1C1D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37645-8415-4680-9B6C-7F7938BF6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B950C2-FEDC-440E-8D7A-D49987915A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72884-FD45-4D73-856E-565D593106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FE9BEE-01B1-425B-8C62-BFF0E58F66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E9362E-7020-44DB-92F6-F377E68C77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10E429-3857-42C1-9FFF-6C962F8FA4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2B1E70-433C-4080-AB45-0D2B09A7FA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6B196A-4409-4222-8355-30403B2608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B165D2-E71B-4EF7-89E5-6BF46C041A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4D12AE-F940-4035-AEC2-A456F3AEFCA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9753-1D54-4200-93F8-5B3ECA560F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5B3D-6ED6-45A5-9460-4F4E29EE89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000769A0-99F3-42E8-9025-F7A4362C55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43EFDB32-E30C-4C9D-B505-0D9A221F28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3E80F721-4804-42E2-A35D-CFB13B1A8A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B1B57193-F280-4874-805C-ECB81FAEB3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9ADB3007-54B4-4183-A21E-FD82D974C2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30901C45-B81F-482B-BE60-81D07C4B46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F5FA4F80-D95F-4DB4-8956-F79B32EBDDDC}"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3C845AD5-B5B4-49F7-94F7-13697B78BA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6A58C05A-D0CA-4B57-9174-39734F9EFD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B9CA1086-5252-414C-92D4-793C631345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7A459193-DFD2-44E5-A4B8-486D6BBE1A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741240" y="2133720"/>
            <a:ext cx="8402760" cy="4084200"/>
            <a:chOff x="741240" y="2133720"/>
            <a:chExt cx="8402760" cy="4084200"/>
          </a:xfrm>
        </p:grpSpPr>
        <p:sp>
          <p:nvSpPr>
            <p:cNvPr id="153"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54"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55"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56"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57"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58"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59"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60"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61"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62"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63"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64"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65"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66"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67"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68"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69"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70"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71"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72"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73"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174"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175"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176"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177"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178"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179"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180"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2"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183"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184"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185"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186"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187"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188"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189"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190"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191"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1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196"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C9A3C1B-80C6-44A2-9D2C-622858C9C6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38080" y="1905120"/>
            <a:ext cx="7467840" cy="4303440"/>
          </a:xfrm>
          <a:prstGeom prst="rect">
            <a:avLst/>
          </a:prstGeom>
          <a:ln w="0">
            <a:noFill/>
          </a:ln>
        </p:spPr>
      </p:pic>
      <p:sp>
        <p:nvSpPr>
          <p:cNvPr id="198"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199"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01"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02"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03"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04"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06"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0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0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6FC0493E-53FA-4412-B889-3C41B12525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28600" y="2789280"/>
            <a:ext cx="4724280" cy="3373560"/>
          </a:xfrm>
          <a:prstGeom prst="rect">
            <a:avLst/>
          </a:prstGeom>
          <a:ln w="0">
            <a:noFill/>
          </a:ln>
        </p:spPr>
      </p:pic>
      <p:sp>
        <p:nvSpPr>
          <p:cNvPr id="215"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216"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217"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2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224"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A2BC94B1-40A3-44DA-987E-CD477CF578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227"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228"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229"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30"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4" name="" descr=""/>
          <p:cNvPicPr/>
          <p:nvPr/>
        </p:nvPicPr>
        <p:blipFill>
          <a:blip r:embed="rId1"/>
          <a:stretch/>
        </p:blipFill>
        <p:spPr>
          <a:xfrm>
            <a:off x="304920" y="2438280"/>
            <a:ext cx="4114800" cy="3826080"/>
          </a:xfrm>
          <a:prstGeom prst="rect">
            <a:avLst/>
          </a:prstGeom>
          <a:ln w="0">
            <a:noFill/>
          </a:ln>
        </p:spPr>
      </p:pic>
      <p:sp>
        <p:nvSpPr>
          <p:cNvPr id="235"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236"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237"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73362A50-4799-42BD-A9A9-ACDCAAA95D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jore</cp:lastModifiedBy>
  <cp:lastPrinted>2004-08-09T23:39:53Z</cp:lastPrinted>
  <dcterms:modified xsi:type="dcterms:W3CDTF">2004-09-03T18:08:20Z</dcterms:modified>
  <cp:revision>268</cp:revision>
  <dc:subject/>
  <dc:title>Presentación de PowerPoint</dc:title>
</cp:coreProperties>
</file>